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7E5F-061C-4D14-A730-CF1EC261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3EB9-55C9-4ECA-8C3A-3A8D99D1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F959-FF0C-458D-8DE1-1EE86309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BE1F-2DC0-4EC8-8B6F-E77302AC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4406-C42F-4635-AEED-22BC7354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DCB3-528A-4925-817C-B86E8B4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20FA-3261-41BD-8A25-3A687B39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6C4-15AA-4B23-BCFC-11B1334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EF6-3709-4F1F-9EDD-1B8A3AFC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A43F-EBD9-455E-92EF-9B7CDDFE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F8B0-2665-4C93-8338-ADA1ECA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B53B-F65D-4A51-BCF1-FF625CD9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A24B-E6BB-413A-993C-55E3EB1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E919-AF40-4254-A0E8-D34FED9A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B1D2-660A-420A-AC66-DEAAB877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05E7-EC23-43B6-A87D-5841DA70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2209-FAF0-4ECA-A98A-E3619B9A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7ADF-99CD-4EBF-9782-86F395D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B01F-989C-4B03-A2E9-436FB6A6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809E-B158-43FA-93A5-B838250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FEEA-E059-4A29-835B-92E23B5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094E-6925-430B-A444-83AC85B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6B0E-E225-4763-8257-012DA5B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1305-5081-41C5-96C5-CC6674C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E8B4-2CE6-44CF-8396-FCD71F5D3D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6E9-8268-4A1F-AC0C-0AA9CBD148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Działania na ułamkach dziesiętnych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Mnożenie ułamków dziesiętnych przez 10, 100, 1000, ..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y mnożeniu ułamka dziesiętnego przez 10, 100, 1000, przesuwamy przecinek odpowiednio o 1, 2, 3 miejsca w pra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Na podstawie rysunku uzupełnij zapis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415120" cy="225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191628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0,02 zł · 10 = ...... z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nożenie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2 · 10 =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,51 · 10 = 125,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,223 · 100 = 522,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7 · 100 =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,0046 · 1000 = 4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5 · 1000 = 35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noż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nożąc dwa ułamki dziesiętne, wykonujemy działania tak, jak na liczbach naturalnych,              a w otrzymanym wyniku oddzielamy przecinkiem (licząc od prawej strony) tyle cyfr, i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ło łącznie po przecinku w obu czynnik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gorytm mnożenia liczb dziesiętnych możemy podzielić na następujące etapy: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Plik:Liczby dziesietne11.svg"/>
          <p:cNvPicPr/>
          <p:nvPr/>
        </p:nvPicPr>
        <p:blipFill>
          <a:blip r:embed="rId1"/>
          <a:stretch/>
        </p:blipFill>
        <p:spPr>
          <a:xfrm>
            <a:off x="684360" y="2060640"/>
            <a:ext cx="7777080" cy="28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60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95640" y="69228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ożąc ułamki podpisujemy 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en sposób, aby ostatnia cyfra jednego ułamka była pod ostatnią cyfrą drugiego ułam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6048360" cy="30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zielenie ułamków dziesiętnych przez 10, 100, 1000, ..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zy dzieleniu ułamka dziesiętnego przez 10, 100, 1000, przesuwamy przecinek odpowiednio o 1, 2, 3 miejsca w lew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4 : 10 = 2,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39 : 10 =0,1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12,3 : 100 =8,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7 : 100 = 0,0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,5 : 1000 =0,00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 : 1000 = 0,0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zielenie ułamków dziesiętnych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y obliczamy iloraz dwóch ułamków dziesiętnych, najpierw przesuwamy przecinek            w prawą stronę o tyle miejsc, aby nie było           go w drugiej liczbie (aby dzielnik stał się liczbą naturalną). Następnie wykonujemy dzielen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iekawostk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ykonujemy obliczenia arytmetyczne, często posługujemy się ułamkami dziesiętnymi  i trudno dziś wyobrazić sobie czas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kiedy w użyciu były tylko ułamki zwykł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apis dziesiętny liczb został opracowany w XV wieku przez perskiego matematyka Al-Kasz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jego dzi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Miftah al-hisab  (Klucz do arytmetyki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ddzielenie przecinkiem całości od części dziesiętnych było pomysłem angielskiego matematyka. J. Nep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43 : 0,3 = 144,3 : 3 =48,1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        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,5 : 0,25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50 : 25 = 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103640" cy="388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zy dzieleniu ułamka dziesiętnego przez liczbę w wyniku w odpowiednim miejscu                            (nad przecinkiem dzielnej)                      stawiamy przecin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15892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Zadan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arysia zmierzyła 500 kartek i otrzymała wynik 5,2 cm. Jaką grubość ma jedna kartk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Plik:Dzielenie kartka.jpg"/>
          <p:cNvPicPr/>
          <p:nvPr/>
        </p:nvPicPr>
        <p:blipFill>
          <a:blip r:embed="rId1"/>
          <a:stretch/>
        </p:blipFill>
        <p:spPr>
          <a:xfrm>
            <a:off x="4716360" y="2924280"/>
            <a:ext cx="374328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http://wiki.wolnepodreczniki.pl/Matematyka:Gimnazjum/Liczby_wymierne_1#Spos.C3.B3b_rzyms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ek dziesiętny to ułamek o mianowni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, 100, 1000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łamki dziesiętne zapisuje się bez kreski ułamkowej, ale specjalną funkcję pełni przecinek dziesiętny (w krajach anglosaskich                      kropka), który oddziela                                część całkowitą od części                          ułamkow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cz&amp;eogon;&amp;sacute;ci dziesi&amp;eogon;tne i u&amp;lstrok;amkowe "/>
          <p:cNvPicPr/>
          <p:nvPr/>
        </p:nvPicPr>
        <p:blipFill>
          <a:blip r:embed="rId1"/>
          <a:stretch/>
        </p:blipFill>
        <p:spPr>
          <a:xfrm>
            <a:off x="6227640" y="2997360"/>
            <a:ext cx="263844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Gdy czytamy liczbę zapisaną w postaci dziesiętnej, patrzymy w jakim rzędzie znajduje się cyfra zapisana jako ostatni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Plik:Liczby dziesiet 3.svg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37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amiętaj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y dodawaniu i odejmowaniu ułamków dziesiętnych sposobem pisemnym, należy podpisać je w ten sposób, aby przecinek          był pod przecinkiem,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edności pod jednościami, części dziesiąte pod częściami dziesiątymi i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sposobem pisemnym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27 + 3,1 + 8,135 = 17,5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3,2 - 6,366 = 76,8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 przypadku odejmowania, jeżeli odjemna ma mniej miejsc po przecinku niż odjemnik, miejsca te uzupełniamy zeram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441440" cy="187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158436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Plik:Liczby dziesiet 7.svg"/>
          <p:cNvPicPr/>
          <p:nvPr/>
        </p:nvPicPr>
        <p:blipFill>
          <a:blip r:embed="rId1"/>
          <a:stretch/>
        </p:blipFill>
        <p:spPr>
          <a:xfrm>
            <a:off x="250920" y="3789360"/>
            <a:ext cx="8569080" cy="208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lik:Liczby dziesiet 5.svg"/>
          <p:cNvPicPr/>
          <p:nvPr/>
        </p:nvPicPr>
        <p:blipFill>
          <a:blip r:embed="rId2"/>
          <a:stretch/>
        </p:blipFill>
        <p:spPr>
          <a:xfrm>
            <a:off x="1042920" y="1413000"/>
            <a:ext cx="705816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zykła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879640" cy="240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2736720" cy="23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licz wartość zakupów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4248000" cy="215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64492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33:25Z</dcterms:created>
  <dc:creator>x</dc:creator>
  <dc:description/>
  <dc:language>en-US</dc:language>
  <cp:lastModifiedBy>Matematyka</cp:lastModifiedBy>
  <dcterms:modified xsi:type="dcterms:W3CDTF">2013-05-03T19:44:20Z</dcterms:modified>
  <cp:revision>31</cp:revision>
  <dc:subject/>
  <dc:title>Działania na ułamkach dziesiętnych.</dc:title>
</cp:coreProperties>
</file>